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A382-2763-41F1-8C30-2C189DCF94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31B5-1585-4D5B-8BD2-04888205BE1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382E-CB3B-48C7-93C9-78DF19E30B9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F8D2-0BD3-41DF-8046-1407FE5EF35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6D4-8C77-4A91-9E86-69529F37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C0A-D92A-4062-B66A-A49A192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6CA-F566-479B-BEC6-F55BEA1D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2D3-BBB3-4F8B-A053-D886DCCF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FAB-3B53-43B7-B220-2B258848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9A1-643A-499D-BD32-FEF872BF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508-EA49-4078-9BC4-3FA6297A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080-F2C2-41B5-9B95-348C313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FA1-1B39-40D3-A8EF-F06C4A50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BE1-8BE1-4349-A4A2-2A304AB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B09-4D51-471F-842E-F7C733B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03C-9624-4FF3-8E0A-924EFAF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50A-92BD-4C7F-950A-238B8ACB84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  <a:ea typeface="Arial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  <a:ea typeface="Arial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  <a:ea typeface="Arial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k</cp:lastModifiedBy>
  <dcterms:modified xsi:type="dcterms:W3CDTF">2018-07-21T10:09:41Z</dcterms:modified>
  <cp:revision>29</cp:revision>
  <dc:subject/>
  <dc:title>Slajd 1</dc:title>
</cp:coreProperties>
</file>